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wmf" ContentType="image/x-wmf"/>
  <Override PartName="/ppt/media/image4.wmf" ContentType="image/x-wmf"/>
  <Override PartName="/ppt/media/image13.jpeg" ContentType="image/jpeg"/>
  <Override PartName="/ppt/media/image23.png" ContentType="image/png"/>
  <Override PartName="/ppt/media/image25.jpeg" ContentType="image/jpeg"/>
  <Override PartName="/ppt/media/image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69A0-89CE-44E6-8AA9-D4C2D10B6F0D}" type="slidenum">
              <a:rPr b="0" lang="en-US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DEA2090-1AEC-4ADA-896C-E373BD894879}" type="slidenum">
              <a:rPr b="0" lang="de-DE" sz="1200" spc="-1" strike="noStrike">
                <a:solidFill>
                  <a:srgbClr val="000000"/>
                </a:solidFill>
                <a:latin typeface="Siemens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1280" y="942660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Siemens Sans"/>
                <a:ea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25B267C-EB66-4018-8EDA-86B7CDFF6CB0}" type="slidenum">
              <a:rPr b="0" lang="de-DE" sz="1200" spc="-1" strike="noStrike">
                <a:solidFill>
                  <a:srgbClr val="000000"/>
                </a:solidFill>
                <a:latin typeface="Siemens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5481-8CFB-418A-A962-D9E47097873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8A74-3D8A-47C9-8A1C-7E799B021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1391760"/>
            <a:ext cx="820908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280" y="2171520"/>
            <a:ext cx="820908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4795-8015-4643-B3EA-F14C241FC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391760"/>
            <a:ext cx="40057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5520" y="1391760"/>
            <a:ext cx="40057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2171520"/>
            <a:ext cx="40057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5520" y="2171520"/>
            <a:ext cx="40057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4447-9340-4DFC-A417-CE9A9CEB3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280" y="1391760"/>
            <a:ext cx="26431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880" y="1391760"/>
            <a:ext cx="26431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0480" y="1391760"/>
            <a:ext cx="26431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280" y="2171520"/>
            <a:ext cx="26431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880" y="2171520"/>
            <a:ext cx="26431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0480" y="2171520"/>
            <a:ext cx="26431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81E8-FC99-4D85-A11B-E4F2A7755C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280" y="1391760"/>
            <a:ext cx="820908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9AE6-5972-4CD0-93BC-BE40D588D9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391760"/>
            <a:ext cx="820908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F029-81B7-45FA-83D4-B501D8825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391760"/>
            <a:ext cx="400572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5520" y="1391760"/>
            <a:ext cx="400572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8F39-B4DC-4CB8-ACA4-D7D4F6831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527E-E774-49BD-A500-970927AB4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396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B080-06B5-4D97-A3CE-E28A3D5AC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1391760"/>
            <a:ext cx="40057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5520" y="1391760"/>
            <a:ext cx="400572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280" y="2171520"/>
            <a:ext cx="40057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5077-7C61-4C29-808D-218D708BC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1391760"/>
            <a:ext cx="400572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5520" y="1391760"/>
            <a:ext cx="40057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5520" y="2171520"/>
            <a:ext cx="40057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FEF0-7CC5-4AD5-A6E7-0E80153B8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1391760"/>
            <a:ext cx="40057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5520" y="1391760"/>
            <a:ext cx="400572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280" y="2171520"/>
            <a:ext cx="820908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0DCE-E3CF-4037-8D21-7F828FD17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7280" y="262080"/>
            <a:ext cx="8856720" cy="971280"/>
          </a:xfrm>
          <a:prstGeom prst="rect">
            <a:avLst/>
          </a:prstGeom>
          <a:solidFill>
            <a:srgbClr val="fe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201080" y="423720"/>
            <a:ext cx="1600200" cy="32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280" y="1391760"/>
            <a:ext cx="820908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4240" indent="-17280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65760" indent="-1897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531000" indent="-16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08840" indent="-1760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708840" indent="-1760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708840" indent="-1760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" name=""/>
          <p:cNvSpPr/>
          <p:nvPr/>
        </p:nvSpPr>
        <p:spPr>
          <a:xfrm>
            <a:off x="4267080" y="6488280"/>
            <a:ext cx="4041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Siemens AG 2012. All rights reserved.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221320" y="6511680"/>
            <a:ext cx="741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D936-9C70-419B-A2C1-A6EF64CFCE7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0" y="0"/>
            <a:ext cx="3065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87280" y="262080"/>
            <a:ext cx="8856720" cy="971280"/>
          </a:xfrm>
          <a:prstGeom prst="rect">
            <a:avLst/>
          </a:prstGeom>
          <a:solidFill>
            <a:srgbClr val="fe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pic>
        <p:nvPicPr>
          <p:cNvPr id="52" name="Picture 6" descr="sie_logo_petrol_rgb_2"/>
          <p:cNvPicPr/>
          <p:nvPr/>
        </p:nvPicPr>
        <p:blipFill>
          <a:blip r:embed="rId2"/>
          <a:stretch/>
        </p:blipFill>
        <p:spPr>
          <a:xfrm>
            <a:off x="7201080" y="423720"/>
            <a:ext cx="1600200" cy="320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297240" y="4549680"/>
            <a:ext cx="545292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nube Region Conference 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ensburg, November 28, 2012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3297240" y="1774800"/>
            <a:ext cx="545148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kills for the future – </a:t>
            </a:r>
            <a:endParaRPr b="0" lang="en-US" sz="32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iew of a global player</a:t>
            </a:r>
            <a:endParaRPr b="0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3297240" y="3375000"/>
            <a:ext cx="54514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lter Huber</a:t>
            </a:r>
            <a:endParaRPr b="0" lang="en-US" sz="24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porate Vice President HR </a:t>
            </a:r>
            <a:endParaRPr b="0" lang="en-US" sz="24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emens AG</a:t>
            </a:r>
            <a:endParaRPr b="0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6049800" y="6534000"/>
            <a:ext cx="360" cy="2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"/>
          <p:cNvSpPr/>
          <p:nvPr/>
        </p:nvSpPr>
        <p:spPr>
          <a:xfrm>
            <a:off x="8331120" y="6230880"/>
            <a:ext cx="66060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113D-7476-4E17-903F-688F3F8566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9520" y="2151000"/>
            <a:ext cx="2174760" cy="460440"/>
          </a:xfrm>
          <a:prstGeom prst="rect">
            <a:avLst/>
          </a:prstGeom>
          <a:solidFill>
            <a:srgbClr val="336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grpSp>
        <p:nvGrpSpPr>
          <p:cNvPr id="210" name="Text Box 25"/>
          <p:cNvGrpSpPr/>
          <p:nvPr/>
        </p:nvGrpSpPr>
        <p:grpSpPr>
          <a:xfrm>
            <a:off x="536400" y="4327560"/>
            <a:ext cx="8210520" cy="1329840"/>
            <a:chOff x="536400" y="4327560"/>
            <a:chExt cx="8210520" cy="1329840"/>
          </a:xfrm>
        </p:grpSpPr>
        <p:pic>
          <p:nvPicPr>
            <p:cNvPr id="211" name="Text Box 25" descr=""/>
            <p:cNvPicPr/>
            <p:nvPr/>
          </p:nvPicPr>
          <p:blipFill>
            <a:blip r:embed="rId1"/>
            <a:stretch/>
          </p:blipFill>
          <p:spPr>
            <a:xfrm>
              <a:off x="536400" y="4329000"/>
              <a:ext cx="820800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37840" y="4327560"/>
              <a:ext cx="820908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.g. </a:t>
              </a:r>
              <a:endParaRPr b="0" lang="en-US" sz="1600" spc="-1" strike="noStrike">
                <a:solidFill>
                  <a:srgbClr val="000000"/>
                </a:solidFill>
                <a:latin typeface="Siemens Sans"/>
              </a:endParaRPr>
            </a:p>
          </p:txBody>
        </p:sp>
      </p:grpSp>
      <p:grpSp>
        <p:nvGrpSpPr>
          <p:cNvPr id="213" name="Text Box 25"/>
          <p:cNvGrpSpPr/>
          <p:nvPr/>
        </p:nvGrpSpPr>
        <p:grpSpPr>
          <a:xfrm>
            <a:off x="536400" y="2846520"/>
            <a:ext cx="8210520" cy="1433520"/>
            <a:chOff x="536400" y="2846520"/>
            <a:chExt cx="8210520" cy="1433520"/>
          </a:xfrm>
        </p:grpSpPr>
        <p:pic>
          <p:nvPicPr>
            <p:cNvPr id="214" name="Text Box 25" descr=""/>
            <p:cNvPicPr/>
            <p:nvPr/>
          </p:nvPicPr>
          <p:blipFill>
            <a:blip r:embed="rId2"/>
            <a:stretch/>
          </p:blipFill>
          <p:spPr>
            <a:xfrm>
              <a:off x="536400" y="2846520"/>
              <a:ext cx="8208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37840" y="2847960"/>
              <a:ext cx="82090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-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ve:</a:t>
              </a:r>
              <a:endParaRPr b="0" lang="en-US" sz="1600" spc="-1" strike="noStrike">
                <a:solidFill>
                  <a:srgbClr val="000000"/>
                </a:solidFill>
                <a:latin typeface="Siemens Sans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4342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ocational training ensures maximum professional competence and decision-making ski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1171440" y="1401840"/>
            <a:ext cx="7578720" cy="723960"/>
          </a:xfrm>
          <a:prstGeom prst="triangle">
            <a:avLst>
              <a:gd name="adj" fmla="val 49856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8" name="Text Box 9"/>
          <p:cNvSpPr/>
          <p:nvPr/>
        </p:nvSpPr>
        <p:spPr>
          <a:xfrm flipH="1">
            <a:off x="2772720" y="1608120"/>
            <a:ext cx="4373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Professional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ompetence and decision-making skills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grpSp>
        <p:nvGrpSpPr>
          <p:cNvPr id="219" name="Rectangle 15"/>
          <p:cNvGrpSpPr/>
          <p:nvPr/>
        </p:nvGrpSpPr>
        <p:grpSpPr>
          <a:xfrm>
            <a:off x="6345360" y="2603520"/>
            <a:ext cx="2212560" cy="3223800"/>
            <a:chOff x="6345360" y="2603520"/>
            <a:chExt cx="2212560" cy="3223800"/>
          </a:xfrm>
        </p:grpSpPr>
        <p:pic>
          <p:nvPicPr>
            <p:cNvPr id="220" name="Rectangle 15" descr=""/>
            <p:cNvPicPr/>
            <p:nvPr/>
          </p:nvPicPr>
          <p:blipFill>
            <a:blip r:embed="rId3"/>
            <a:stretch/>
          </p:blipFill>
          <p:spPr>
            <a:xfrm>
              <a:off x="6345360" y="2604600"/>
              <a:ext cx="221148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347880" y="2603520"/>
              <a:ext cx="2210040" cy="32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iemens Sans"/>
              </a:endParaRPr>
            </a:p>
          </p:txBody>
        </p:sp>
      </p:grpSp>
      <p:sp>
        <p:nvSpPr>
          <p:cNvPr id="222" name="Rectangle 22"/>
          <p:cNvSpPr/>
          <p:nvPr/>
        </p:nvSpPr>
        <p:spPr>
          <a:xfrm>
            <a:off x="6404040" y="2865600"/>
            <a:ext cx="21002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Targeted expansion and development of one’s individual skills to reflect professional requirements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ystematic approach, decision-making ability,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foreign languages, market and specialist knowledg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grpSp>
        <p:nvGrpSpPr>
          <p:cNvPr id="223" name="Rectangle 14"/>
          <p:cNvGrpSpPr/>
          <p:nvPr/>
        </p:nvGrpSpPr>
        <p:grpSpPr>
          <a:xfrm>
            <a:off x="3852720" y="2603520"/>
            <a:ext cx="2212920" cy="3223800"/>
            <a:chOff x="3852720" y="2603520"/>
            <a:chExt cx="2212920" cy="3223800"/>
          </a:xfrm>
        </p:grpSpPr>
        <p:pic>
          <p:nvPicPr>
            <p:cNvPr id="224" name="Rectangle 14" descr=""/>
            <p:cNvPicPr/>
            <p:nvPr/>
          </p:nvPicPr>
          <p:blipFill>
            <a:blip r:embed="rId4"/>
            <a:stretch/>
          </p:blipFill>
          <p:spPr>
            <a:xfrm>
              <a:off x="3852720" y="2604600"/>
              <a:ext cx="221040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854160" y="2603520"/>
              <a:ext cx="2211480" cy="32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iemens Sans"/>
              </a:endParaRPr>
            </a:p>
          </p:txBody>
        </p:sp>
      </p:grpSp>
      <p:sp>
        <p:nvSpPr>
          <p:cNvPr id="226" name="Rectangle 23"/>
          <p:cNvSpPr/>
          <p:nvPr/>
        </p:nvSpPr>
        <p:spPr>
          <a:xfrm>
            <a:off x="3908520" y="2863800"/>
            <a:ext cx="210492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Assume responsibility and adjust one’s own actions accordingly. Conflicts are not avoided but managed in a constructive way.</a:t>
            </a:r>
            <a:br>
              <a:rPr sz="1400"/>
            </a:b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Teamwork skills,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willingness to communicate and solve conflicts, willingness to assume responsibility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pic>
        <p:nvPicPr>
          <p:cNvPr id="227" name="Rectangle 13" descr=""/>
          <p:cNvPicPr/>
          <p:nvPr/>
        </p:nvPicPr>
        <p:blipFill>
          <a:blip r:embed="rId5"/>
          <a:stretch/>
        </p:blipFill>
        <p:spPr>
          <a:xfrm>
            <a:off x="1359000" y="2603520"/>
            <a:ext cx="2212920" cy="32241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4"/>
          <p:cNvSpPr/>
          <p:nvPr/>
        </p:nvSpPr>
        <p:spPr>
          <a:xfrm>
            <a:off x="1414440" y="2865600"/>
            <a:ext cx="21589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Personal thinking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and learning geared to business and personal professional development. 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Presentation techniques, public speaking skills, business games, creative techniques, project management, self-controlled learning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960800" y="5989680"/>
            <a:ext cx="1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1643040" y="2181240"/>
            <a:ext cx="17305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thod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kill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5827680"/>
            <a:ext cx="7434360" cy="4366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3534120" y="5899320"/>
            <a:ext cx="265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ubject-specific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3" name=""/>
          <p:cNvSpPr/>
          <p:nvPr/>
        </p:nvSpPr>
        <p:spPr>
          <a:xfrm>
            <a:off x="3876840" y="2151000"/>
            <a:ext cx="2174760" cy="460440"/>
          </a:xfrm>
          <a:prstGeom prst="rect">
            <a:avLst/>
          </a:prstGeom>
          <a:solidFill>
            <a:srgbClr val="336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4073400" y="2160720"/>
            <a:ext cx="1959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ocial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kill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5" name=""/>
          <p:cNvSpPr/>
          <p:nvPr/>
        </p:nvSpPr>
        <p:spPr>
          <a:xfrm>
            <a:off x="6356520" y="2151000"/>
            <a:ext cx="2174760" cy="460440"/>
          </a:xfrm>
          <a:prstGeom prst="rect">
            <a:avLst/>
          </a:prstGeom>
          <a:solidFill>
            <a:srgbClr val="336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6645240" y="2144880"/>
            <a:ext cx="1709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Individual skill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0C7A-1946-4F8B-8681-CB5DE085F7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rot="14494200">
            <a:off x="4039200" y="73440"/>
            <a:ext cx="1774800" cy="7221240"/>
          </a:xfrm>
          <a:custGeom>
            <a:avLst/>
            <a:gdLst>
              <a:gd name="textAreaLeft" fmla="*/ 636840 w 1774800"/>
              <a:gd name="textAreaRight" fmla="*/ 1137960 w 1774800"/>
              <a:gd name="textAreaTop" fmla="*/ 2590920 h 7221240"/>
              <a:gd name="textAreaBottom" fmla="*/ 4630320 h 722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8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7252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foster lifelong development and learn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nsure the individual’s employ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65800" y="1870200"/>
            <a:ext cx="1866960" cy="1314360"/>
          </a:xfrm>
          <a:custGeom>
            <a:avLst/>
            <a:gdLst/>
            <a:ahLst/>
            <a:rect l="l" t="t" r="r" b="b"/>
            <a:pathLst>
              <a:path w="872" h="592">
                <a:moveTo>
                  <a:pt x="322" y="236"/>
                </a:moveTo>
                <a:lnTo>
                  <a:pt x="0" y="0"/>
                </a:lnTo>
                <a:lnTo>
                  <a:pt x="872" y="0"/>
                </a:lnTo>
                <a:lnTo>
                  <a:pt x="798" y="592"/>
                </a:lnTo>
                <a:lnTo>
                  <a:pt x="322" y="236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1" name=""/>
          <p:cNvSpPr/>
          <p:nvPr/>
        </p:nvSpPr>
        <p:spPr>
          <a:xfrm rot="19941600">
            <a:off x="1945440" y="3935160"/>
            <a:ext cx="421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long learning and development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2" name=""/>
          <p:cNvSpPr/>
          <p:nvPr/>
        </p:nvSpPr>
        <p:spPr>
          <a:xfrm>
            <a:off x="361800" y="4618080"/>
            <a:ext cx="2014560" cy="1695240"/>
          </a:xfrm>
          <a:custGeom>
            <a:avLst/>
            <a:gdLst/>
            <a:ahLst/>
            <a:rect l="l" t="t" r="r" b="b"/>
            <a:pathLst>
              <a:path w="1170" h="1146">
                <a:moveTo>
                  <a:pt x="3" y="240"/>
                </a:moveTo>
                <a:lnTo>
                  <a:pt x="582" y="0"/>
                </a:lnTo>
                <a:lnTo>
                  <a:pt x="903" y="535"/>
                </a:lnTo>
                <a:lnTo>
                  <a:pt x="1170" y="975"/>
                </a:lnTo>
                <a:lnTo>
                  <a:pt x="906" y="1146"/>
                </a:lnTo>
                <a:lnTo>
                  <a:pt x="0" y="1146"/>
                </a:lnTo>
                <a:lnTo>
                  <a:pt x="3" y="240"/>
                </a:lnTo>
                <a:close/>
              </a:path>
            </a:pathLst>
          </a:custGeom>
          <a:solidFill>
            <a:srgbClr val="336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3" name=""/>
          <p:cNvSpPr/>
          <p:nvPr/>
        </p:nvSpPr>
        <p:spPr>
          <a:xfrm>
            <a:off x="426600" y="5143680"/>
            <a:ext cx="14868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spective 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etency 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 of 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businesse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3409920"/>
            <a:ext cx="2532240" cy="10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very employee has individual targets. 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nual evaluation of performance and potential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5" name=""/>
          <p:cNvSpPr/>
          <p:nvPr/>
        </p:nvSpPr>
        <p:spPr>
          <a:xfrm>
            <a:off x="2071800" y="2530440"/>
            <a:ext cx="2633400" cy="7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dividual development plan, specific further education and next step positions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6" name=""/>
          <p:cNvSpPr/>
          <p:nvPr/>
        </p:nvSpPr>
        <p:spPr>
          <a:xfrm>
            <a:off x="3940200" y="1890720"/>
            <a:ext cx="2539800" cy="55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p Talents are developed on the fast track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7" name=""/>
          <p:cNvSpPr/>
          <p:nvPr/>
        </p:nvSpPr>
        <p:spPr>
          <a:xfrm>
            <a:off x="3871800" y="5530680"/>
            <a:ext cx="2963880" cy="55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wn organization for further education: Learning Campus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8" name=""/>
          <p:cNvSpPr/>
          <p:nvPr/>
        </p:nvSpPr>
        <p:spPr>
          <a:xfrm>
            <a:off x="6218280" y="3409920"/>
            <a:ext cx="2468520" cy="7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-the-job Bachelor and Master courses in co-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on with universities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9" name=""/>
          <p:cNvSpPr/>
          <p:nvPr/>
        </p:nvSpPr>
        <p:spPr>
          <a:xfrm>
            <a:off x="5089680" y="4489560"/>
            <a:ext cx="2890800" cy="7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emens Leadership 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cellence Programs for different levels of Management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0" name=""/>
          <p:cNvSpPr/>
          <p:nvPr/>
        </p:nvSpPr>
        <p:spPr>
          <a:xfrm>
            <a:off x="361800" y="1671480"/>
            <a:ext cx="841248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1" name=""/>
          <p:cNvSpPr/>
          <p:nvPr/>
        </p:nvSpPr>
        <p:spPr>
          <a:xfrm>
            <a:off x="7288200" y="2219400"/>
            <a:ext cx="1603440" cy="984240"/>
          </a:xfrm>
          <a:prstGeom prst="ellipse">
            <a:avLst/>
          </a:prstGeom>
          <a:solidFill>
            <a:srgbClr val="336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arning 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vestment 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00 mio. p.y.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ADA2-969B-447C-ABE2-FF821044CF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263160"/>
            <a:ext cx="67392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need a stable qualification and knowledge structure, especially in technical fie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585960" y="1406160"/>
            <a:ext cx="4738680" cy="19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spcBef>
                <a:spcPts val="15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a proactive education policy th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velops and utiliz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tent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s, companies and society must joi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their responsi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3470400"/>
            <a:ext cx="8048880" cy="27320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036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uide and support all youth in finishing schoo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6036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pare more youth for higher education and inspire them                                          to study technical subject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6036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uce the rate of university drop-out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6036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courage more women to study technical subjects and keep them employed also during family phase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6036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sure lifelong learning, particularly in view of longer working live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9640" y="1521000"/>
            <a:ext cx="2716200" cy="170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38200" y="1521000"/>
            <a:ext cx="8031240" cy="17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54FE-FAD0-4047-B17A-51F7107948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27520" y="1592280"/>
            <a:ext cx="4283280" cy="360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ployees 2012 worldwide:           370,000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714920" y="4057560"/>
            <a:ext cx="4295880" cy="3668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w hires 2012 worldwide:               52,700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97000" y="1592280"/>
            <a:ext cx="4294080" cy="360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venue 2012 worldwide:       € 78.3 billion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97000" y="4057560"/>
            <a:ext cx="4294080" cy="3668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ployees and revenue abroad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72520"/>
            <a:ext cx="680256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emens has a permanently high need for personne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in all regions of the wor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000" y="1592280"/>
            <a:ext cx="4294080" cy="23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Rectangle 254"/>
          <p:cNvSpPr/>
          <p:nvPr/>
        </p:nvSpPr>
        <p:spPr>
          <a:xfrm>
            <a:off x="1657440" y="3022560"/>
            <a:ext cx="392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6%</a:t>
            </a:r>
            <a:endParaRPr b="0" lang="en-US" sz="1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6" name="Rectangle 255"/>
          <p:cNvSpPr/>
          <p:nvPr/>
        </p:nvSpPr>
        <p:spPr>
          <a:xfrm>
            <a:off x="1762200" y="2498760"/>
            <a:ext cx="3920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1%</a:t>
            </a:r>
            <a:endParaRPr b="0" lang="en-US" sz="1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7" name="Rectangle 252"/>
          <p:cNvSpPr/>
          <p:nvPr/>
        </p:nvSpPr>
        <p:spPr>
          <a:xfrm>
            <a:off x="2309760" y="2417760"/>
            <a:ext cx="3920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Rectangle 253"/>
          <p:cNvSpPr/>
          <p:nvPr/>
        </p:nvSpPr>
        <p:spPr>
          <a:xfrm>
            <a:off x="2330280" y="3043080"/>
            <a:ext cx="3924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Rectangle 255"/>
          <p:cNvSpPr/>
          <p:nvPr/>
        </p:nvSpPr>
        <p:spPr>
          <a:xfrm>
            <a:off x="1800360" y="2470320"/>
            <a:ext cx="3920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Rectangle 249"/>
          <p:cNvSpPr/>
          <p:nvPr/>
        </p:nvSpPr>
        <p:spPr>
          <a:xfrm>
            <a:off x="517680" y="3033720"/>
            <a:ext cx="774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mericas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1" name="Rectangle 250"/>
          <p:cNvSpPr/>
          <p:nvPr/>
        </p:nvSpPr>
        <p:spPr>
          <a:xfrm>
            <a:off x="2905200" y="3618000"/>
            <a:ext cx="7668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rein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Rectangle 256"/>
          <p:cNvSpPr/>
          <p:nvPr/>
        </p:nvSpPr>
        <p:spPr>
          <a:xfrm>
            <a:off x="392040" y="2162160"/>
            <a:ext cx="1017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ia, Australia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graphicFrame>
        <p:nvGraphicFramePr>
          <p:cNvPr id="73" name="Object 248"/>
          <p:cNvGraphicFramePr/>
          <p:nvPr/>
        </p:nvGraphicFramePr>
        <p:xfrm>
          <a:off x="1239840" y="1995480"/>
          <a:ext cx="1989000" cy="19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9840" y="1995480"/>
                    <a:ext cx="198900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200"/>
          <p:cNvSpPr/>
          <p:nvPr/>
        </p:nvSpPr>
        <p:spPr>
          <a:xfrm>
            <a:off x="1736640" y="2360520"/>
            <a:ext cx="417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Rectangle 200"/>
          <p:cNvSpPr/>
          <p:nvPr/>
        </p:nvSpPr>
        <p:spPr>
          <a:xfrm>
            <a:off x="1514520" y="2998800"/>
            <a:ext cx="41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9%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Rectangle 200"/>
          <p:cNvSpPr/>
          <p:nvPr/>
        </p:nvSpPr>
        <p:spPr>
          <a:xfrm>
            <a:off x="2549520" y="2676600"/>
            <a:ext cx="41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1%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8" name="Rectangle 200"/>
          <p:cNvSpPr/>
          <p:nvPr/>
        </p:nvSpPr>
        <p:spPr>
          <a:xfrm>
            <a:off x="2122560" y="3494160"/>
            <a:ext cx="41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"/>
          <p:cNvSpPr/>
          <p:nvPr/>
        </p:nvSpPr>
        <p:spPr>
          <a:xfrm>
            <a:off x="297000" y="4057560"/>
            <a:ext cx="4294080" cy="229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"/>
          <p:cNvSpPr/>
          <p:nvPr/>
        </p:nvSpPr>
        <p:spPr>
          <a:xfrm>
            <a:off x="4727520" y="1592280"/>
            <a:ext cx="4283280" cy="23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4057560"/>
            <a:ext cx="4294440" cy="229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graphicFrame>
        <p:nvGraphicFramePr>
          <p:cNvPr id="82" name="Object 248"/>
          <p:cNvGraphicFramePr/>
          <p:nvPr/>
        </p:nvGraphicFramePr>
        <p:xfrm>
          <a:off x="5869080" y="2028960"/>
          <a:ext cx="19047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9080" y="2028960"/>
                    <a:ext cx="190476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200"/>
          <p:cNvSpPr/>
          <p:nvPr/>
        </p:nvSpPr>
        <p:spPr>
          <a:xfrm>
            <a:off x="6337440" y="2368440"/>
            <a:ext cx="4172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7%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Rectangle 200"/>
          <p:cNvSpPr/>
          <p:nvPr/>
        </p:nvSpPr>
        <p:spPr>
          <a:xfrm>
            <a:off x="6067440" y="3016080"/>
            <a:ext cx="417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Rectangle 200"/>
          <p:cNvSpPr/>
          <p:nvPr/>
        </p:nvSpPr>
        <p:spPr>
          <a:xfrm>
            <a:off x="6816600" y="3446640"/>
            <a:ext cx="41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2%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Rectangle 200"/>
          <p:cNvSpPr/>
          <p:nvPr/>
        </p:nvSpPr>
        <p:spPr>
          <a:xfrm>
            <a:off x="7048440" y="2549520"/>
            <a:ext cx="41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Rectangle 249"/>
          <p:cNvSpPr/>
          <p:nvPr/>
        </p:nvSpPr>
        <p:spPr>
          <a:xfrm>
            <a:off x="5075280" y="3325680"/>
            <a:ext cx="774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mericas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Rectangle 256"/>
          <p:cNvSpPr/>
          <p:nvPr/>
        </p:nvSpPr>
        <p:spPr>
          <a:xfrm>
            <a:off x="4883040" y="2235240"/>
            <a:ext cx="1017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ia, Australia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0" name=""/>
          <p:cNvSpPr/>
          <p:nvPr/>
        </p:nvSpPr>
        <p:spPr>
          <a:xfrm>
            <a:off x="6446880" y="6033960"/>
            <a:ext cx="7398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s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1" name=""/>
          <p:cNvSpPr/>
          <p:nvPr/>
        </p:nvSpPr>
        <p:spPr>
          <a:xfrm>
            <a:off x="7577280" y="6018120"/>
            <a:ext cx="1023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a,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"/>
          <p:cNvSpPr/>
          <p:nvPr/>
        </p:nvSpPr>
        <p:spPr>
          <a:xfrm>
            <a:off x="5654520" y="5751360"/>
            <a:ext cx="696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3" name=""/>
          <p:cNvSpPr/>
          <p:nvPr/>
        </p:nvSpPr>
        <p:spPr>
          <a:xfrm>
            <a:off x="5046840" y="4781520"/>
            <a:ext cx="607680" cy="1201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4" name=""/>
          <p:cNvSpPr/>
          <p:nvPr/>
        </p:nvSpPr>
        <p:spPr>
          <a:xfrm>
            <a:off x="6497640" y="5326200"/>
            <a:ext cx="608040" cy="657000"/>
          </a:xfrm>
          <a:prstGeom prst="rect">
            <a:avLst/>
          </a:prstGeom>
          <a:solidFill>
            <a:srgbClr val="336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5" name=""/>
          <p:cNvSpPr/>
          <p:nvPr/>
        </p:nvSpPr>
        <p:spPr>
          <a:xfrm>
            <a:off x="7742160" y="5357880"/>
            <a:ext cx="608040" cy="62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6" name=""/>
          <p:cNvSpPr/>
          <p:nvPr/>
        </p:nvSpPr>
        <p:spPr>
          <a:xfrm>
            <a:off x="5046840" y="5456160"/>
            <a:ext cx="607680" cy="52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7" name=""/>
          <p:cNvSpPr/>
          <p:nvPr/>
        </p:nvSpPr>
        <p:spPr>
          <a:xfrm>
            <a:off x="5092560" y="4573440"/>
            <a:ext cx="51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,400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8" name=""/>
          <p:cNvSpPr/>
          <p:nvPr/>
        </p:nvSpPr>
        <p:spPr>
          <a:xfrm>
            <a:off x="6566040" y="5116680"/>
            <a:ext cx="51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,400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9" name=""/>
          <p:cNvSpPr/>
          <p:nvPr/>
        </p:nvSpPr>
        <p:spPr>
          <a:xfrm>
            <a:off x="7767720" y="5146560"/>
            <a:ext cx="51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,900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0" name=""/>
          <p:cNvSpPr/>
          <p:nvPr/>
        </p:nvSpPr>
        <p:spPr>
          <a:xfrm>
            <a:off x="5140440" y="5629320"/>
            <a:ext cx="42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,300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1" name=""/>
          <p:cNvSpPr/>
          <p:nvPr/>
        </p:nvSpPr>
        <p:spPr>
          <a:xfrm>
            <a:off x="4913280" y="59850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2" name="Rectangle 250"/>
          <p:cNvSpPr/>
          <p:nvPr/>
        </p:nvSpPr>
        <p:spPr>
          <a:xfrm>
            <a:off x="7569360" y="3535200"/>
            <a:ext cx="766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rein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3" name="Rectangle 251"/>
          <p:cNvSpPr/>
          <p:nvPr/>
        </p:nvSpPr>
        <p:spPr>
          <a:xfrm>
            <a:off x="7589880" y="2238480"/>
            <a:ext cx="1374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urope, CIS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ME, Africa 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23880" y="4313160"/>
          <a:ext cx="3886200" cy="19814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3880" y="4313160"/>
                    <a:ext cx="3886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49280" y="6195960"/>
            <a:ext cx="1893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7" name=""/>
          <p:cNvSpPr/>
          <p:nvPr/>
        </p:nvSpPr>
        <p:spPr>
          <a:xfrm>
            <a:off x="2705040" y="4324320"/>
            <a:ext cx="1714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8" name=""/>
          <p:cNvSpPr/>
          <p:nvPr/>
        </p:nvSpPr>
        <p:spPr>
          <a:xfrm>
            <a:off x="449280" y="478152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4324320"/>
            <a:ext cx="122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10" name=""/>
          <p:cNvSpPr/>
          <p:nvPr/>
        </p:nvSpPr>
        <p:spPr>
          <a:xfrm>
            <a:off x="4541760" y="478152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11" name=""/>
          <p:cNvSpPr/>
          <p:nvPr/>
        </p:nvSpPr>
        <p:spPr>
          <a:xfrm>
            <a:off x="449280" y="5116680"/>
            <a:ext cx="0" cy="33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12" name=""/>
          <p:cNvSpPr/>
          <p:nvPr/>
        </p:nvSpPr>
        <p:spPr>
          <a:xfrm>
            <a:off x="4541760" y="5116680"/>
            <a:ext cx="0" cy="33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49280" y="5456160"/>
            <a:ext cx="0" cy="401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14" name=""/>
          <p:cNvSpPr/>
          <p:nvPr/>
        </p:nvSpPr>
        <p:spPr>
          <a:xfrm>
            <a:off x="4541760" y="5456160"/>
            <a:ext cx="0" cy="73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15" name=""/>
          <p:cNvSpPr/>
          <p:nvPr/>
        </p:nvSpPr>
        <p:spPr>
          <a:xfrm>
            <a:off x="2343240" y="6195960"/>
            <a:ext cx="2076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6195960"/>
            <a:ext cx="122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49280" y="5857920"/>
            <a:ext cx="0" cy="33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18" name=""/>
          <p:cNvSpPr/>
          <p:nvPr/>
        </p:nvSpPr>
        <p:spPr>
          <a:xfrm>
            <a:off x="2533680" y="4532400"/>
            <a:ext cx="180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enue abroad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 86%</a:t>
            </a:r>
            <a:endParaRPr b="0" lang="en-US" sz="13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19" name=""/>
          <p:cNvSpPr/>
          <p:nvPr/>
        </p:nvSpPr>
        <p:spPr>
          <a:xfrm>
            <a:off x="2508120" y="5757840"/>
            <a:ext cx="183672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ployees abroad</a:t>
            </a:r>
            <a:r>
              <a:rPr b="1" lang="en-US" sz="1200" spc="-1" strike="noStrike">
                <a:solidFill>
                  <a:srgbClr val="ffffff"/>
                </a:solidFill>
                <a:latin typeface="Siemens Sans"/>
              </a:rPr>
              <a:t> </a:t>
            </a: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68%</a:t>
            </a:r>
            <a:endParaRPr b="0" lang="en-US" sz="13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0200" y="4541760"/>
            <a:ext cx="0" cy="158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1" name=""/>
          <p:cNvSpPr/>
          <p:nvPr/>
        </p:nvSpPr>
        <p:spPr>
          <a:xfrm>
            <a:off x="4241160" y="6137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2" name=""/>
          <p:cNvSpPr/>
          <p:nvPr/>
        </p:nvSpPr>
        <p:spPr>
          <a:xfrm>
            <a:off x="279360" y="446076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0" lang="en-US" sz="1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3" name=""/>
          <p:cNvSpPr/>
          <p:nvPr/>
        </p:nvSpPr>
        <p:spPr>
          <a:xfrm>
            <a:off x="314280" y="520524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4" name=""/>
          <p:cNvSpPr/>
          <p:nvPr/>
        </p:nvSpPr>
        <p:spPr>
          <a:xfrm>
            <a:off x="2455200" y="6159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5" name=""/>
          <p:cNvSpPr/>
          <p:nvPr/>
        </p:nvSpPr>
        <p:spPr>
          <a:xfrm>
            <a:off x="534960" y="6156360"/>
            <a:ext cx="33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49</a:t>
            </a:r>
            <a:endParaRPr b="0" lang="en-US" sz="1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6" name=""/>
          <p:cNvSpPr/>
          <p:nvPr/>
        </p:nvSpPr>
        <p:spPr>
          <a:xfrm>
            <a:off x="647640" y="528624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7" name="Rectangle 251"/>
          <p:cNvSpPr/>
          <p:nvPr/>
        </p:nvSpPr>
        <p:spPr>
          <a:xfrm>
            <a:off x="3041640" y="2201760"/>
            <a:ext cx="1374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urope, CIS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ME, Africa 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8" name="Rectangle 251"/>
          <p:cNvSpPr/>
          <p:nvPr/>
        </p:nvSpPr>
        <p:spPr>
          <a:xfrm>
            <a:off x="4668840" y="5978520"/>
            <a:ext cx="1374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urope, CIS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ME, Africa 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ED94-EC5E-4EBA-8EE2-04C8044F57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need the best employees –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every job, everywhere in the worl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0560" y="1395000"/>
            <a:ext cx="8058240" cy="3826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txBody>
          <a:bodyPr lIns="72000" rIns="72000" tIns="36000" bIns="36000" anchor="ctr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 wh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3480" y="1879560"/>
            <a:ext cx="695016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1125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 in teams 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  <a:p>
            <a:pPr lvl="1" marL="528480" indent="-174600">
              <a:lnSpc>
                <a:spcPct val="100000"/>
              </a:lnSpc>
              <a:spcBef>
                <a:spcPts val="400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ross organizational unit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1" marL="528480" indent="-174600">
              <a:lnSpc>
                <a:spcPct val="100000"/>
              </a:lnSpc>
              <a:spcBef>
                <a:spcPts val="400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ross national border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1" marL="528480" indent="-174600">
              <a:lnSpc>
                <a:spcPct val="100000"/>
              </a:lnSpc>
              <a:spcBef>
                <a:spcPts val="400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ross discipline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1" marL="528480" indent="-174600">
              <a:lnSpc>
                <a:spcPct val="100000"/>
              </a:lnSpc>
              <a:spcBef>
                <a:spcPts val="400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th internal and external partner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1463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ily adapt to new situations            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1463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 a high degree of geographical mobility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1463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willing and able to pursue lifelong learning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1463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their jobs independently and on their own authority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1463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e personal responsibility for what they do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1125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32" name=""/>
          <p:cNvSpPr/>
          <p:nvPr/>
        </p:nvSpPr>
        <p:spPr>
          <a:xfrm>
            <a:off x="523800" y="5769000"/>
            <a:ext cx="8055000" cy="6426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day’s working environment offers great freedom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 also demands a lot from employees. 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461360" y="1833480"/>
            <a:ext cx="1050840" cy="3892320"/>
            <a:chOff x="7461360" y="1833480"/>
            <a:chExt cx="1050840" cy="38923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7461360" y="1833480"/>
              <a:ext cx="102240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7470720" y="5018040"/>
              <a:ext cx="102240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rcRect l="12583" t="0" r="0" b="0"/>
            <a:stretch/>
          </p:blipFill>
          <p:spPr>
            <a:xfrm>
              <a:off x="7461360" y="3416760"/>
              <a:ext cx="1031760" cy="7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rcRect l="5059" t="0" r="-1575" b="-863"/>
            <a:stretch/>
          </p:blipFill>
          <p:spPr>
            <a:xfrm>
              <a:off x="7480440" y="2619720"/>
              <a:ext cx="1031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7470720" y="4231800"/>
              <a:ext cx="1022400" cy="70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520560" y="1395360"/>
            <a:ext cx="8058240" cy="50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D993-CE1A-4309-AD00-5F204C70DF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2680" y="5757840"/>
            <a:ext cx="4524120" cy="374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6680" y="28368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own vocational training is a key pill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ecuring new generations of employ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5556" t="0" r="15778" b="5828"/>
          <a:stretch/>
        </p:blipFill>
        <p:spPr>
          <a:xfrm>
            <a:off x="5079960" y="1839960"/>
            <a:ext cx="3699000" cy="42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380880" y="1835280"/>
            <a:ext cx="4524480" cy="4460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44" name=""/>
          <p:cNvSpPr/>
          <p:nvPr/>
        </p:nvSpPr>
        <p:spPr>
          <a:xfrm>
            <a:off x="608040" y="1905120"/>
            <a:ext cx="476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5910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rentices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9,630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835280"/>
            <a:ext cx="4524480" cy="42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46" name=""/>
          <p:cNvSpPr/>
          <p:nvPr/>
        </p:nvSpPr>
        <p:spPr>
          <a:xfrm>
            <a:off x="227160" y="2394000"/>
            <a:ext cx="489744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profession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5,360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in academ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helor program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1,830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ercial professions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1,170 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in academic 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helor programs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470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emens Technical Academ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390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 per ye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,000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ly investment in Germany       €180 m. 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entices for other companies      2,710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834C-CA6E-4804-8FD1-16CAD39D22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ual vocational training system in German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2" descr="prüfung_073"/>
          <p:cNvPicPr/>
          <p:nvPr/>
        </p:nvPicPr>
        <p:blipFill>
          <a:blip r:embed="rId1"/>
          <a:stretch/>
        </p:blipFill>
        <p:spPr>
          <a:xfrm>
            <a:off x="557280" y="1874880"/>
            <a:ext cx="2924280" cy="433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Picture 23" descr="werkstatt_297"/>
          <p:cNvPicPr/>
          <p:nvPr/>
        </p:nvPicPr>
        <p:blipFill>
          <a:blip r:embed="rId2"/>
          <a:stretch/>
        </p:blipFill>
        <p:spPr>
          <a:xfrm>
            <a:off x="5851440" y="1874880"/>
            <a:ext cx="2898720" cy="43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Rectangle 24"/>
          <p:cNvSpPr/>
          <p:nvPr/>
        </p:nvSpPr>
        <p:spPr>
          <a:xfrm>
            <a:off x="3289320" y="2247840"/>
            <a:ext cx="2730600" cy="375300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213000" y="5672160"/>
            <a:ext cx="288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2.5 – 3.5 years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3419640" y="4764240"/>
            <a:ext cx="647640" cy="453960"/>
          </a:xfrm>
          <a:custGeom>
            <a:avLst/>
            <a:gdLst>
              <a:gd name="textAreaLeft" fmla="*/ 86760 w 647640"/>
              <a:gd name="textAreaRight" fmla="*/ 560880 w 647640"/>
              <a:gd name="textAreaTop" fmla="*/ 79200 h 453960"/>
              <a:gd name="textAreaBottom" fmla="*/ 329040 h 45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4257720" y="4807080"/>
            <a:ext cx="79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149720" y="4575240"/>
            <a:ext cx="100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4130640" y="5089680"/>
            <a:ext cx="100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6" name="AutoShape 30"/>
          <p:cNvSpPr/>
          <p:nvPr/>
        </p:nvSpPr>
        <p:spPr>
          <a:xfrm rot="10800000">
            <a:off x="5217840" y="4717800"/>
            <a:ext cx="647640" cy="453960"/>
          </a:xfrm>
          <a:custGeom>
            <a:avLst/>
            <a:gdLst>
              <a:gd name="textAreaLeft" fmla="*/ 86760 w 647640"/>
              <a:gd name="textAreaRight" fmla="*/ 560880 w 647640"/>
              <a:gd name="textAreaTop" fmla="*/ 79200 h 453960"/>
              <a:gd name="textAreaBottom" fmla="*/ 329040 h 45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3500280" y="2473200"/>
            <a:ext cx="2305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fied vocational training program to prepare for professional life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685800" y="4164120"/>
            <a:ext cx="2077920" cy="792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763560" y="4277520"/>
            <a:ext cx="1922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ocational schoo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Theory periods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0" name="Rectangle 33"/>
          <p:cNvSpPr/>
          <p:nvPr/>
        </p:nvSpPr>
        <p:spPr>
          <a:xfrm>
            <a:off x="6348240" y="4164120"/>
            <a:ext cx="2078280" cy="792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595920" y="4273560"/>
            <a:ext cx="1605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emen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Practical periods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3249720" y="3871800"/>
            <a:ext cx="2879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al” system of vocational training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7EDB-7995-423A-8B78-BBD57B76DD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6"/>
          <p:cNvSpPr/>
          <p:nvPr/>
        </p:nvSpPr>
        <p:spPr>
          <a:xfrm>
            <a:off x="4873680" y="1467000"/>
            <a:ext cx="363384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2322360" y="1467000"/>
            <a:ext cx="255132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st popular prof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549360" y="2033640"/>
            <a:ext cx="17730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echnical professions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549360" y="3460680"/>
            <a:ext cx="17730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ercial professions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539640" y="4449600"/>
            <a:ext cx="1782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fessions</a:t>
            </a:r>
            <a:endParaRPr b="0" lang="en-US" sz="15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4865760" y="2147760"/>
            <a:ext cx="377676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437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helor of Engineering in Mechatronics incl. Mechatronics Technician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6040" indent="-176040">
              <a:lnSpc>
                <a:spcPct val="100000"/>
              </a:lnSpc>
              <a:spcBef>
                <a:spcPts val="437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helor of Engineering in Electronics and Information Technology incl. Electronics Technicians for Automation Technology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4886280" y="3543480"/>
            <a:ext cx="3522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0000"/>
              </a:lnSpc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helor of Arts in Business Administration incl. Industrial Management Assistant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1" name="TextBox 18"/>
          <p:cNvSpPr/>
          <p:nvPr/>
        </p:nvSpPr>
        <p:spPr>
          <a:xfrm>
            <a:off x="4883040" y="4611600"/>
            <a:ext cx="36338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0000"/>
              </a:lnSpc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helor of Science in Information and Communication Technology incl. Computer Science Expert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2" name=""/>
          <p:cNvSpPr/>
          <p:nvPr/>
        </p:nvSpPr>
        <p:spPr>
          <a:xfrm>
            <a:off x="549360" y="4449600"/>
            <a:ext cx="8029440" cy="11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3" name=""/>
          <p:cNvSpPr/>
          <p:nvPr/>
        </p:nvSpPr>
        <p:spPr>
          <a:xfrm>
            <a:off x="549360" y="3460680"/>
            <a:ext cx="8029440" cy="98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4" name=""/>
          <p:cNvSpPr/>
          <p:nvPr/>
        </p:nvSpPr>
        <p:spPr>
          <a:xfrm>
            <a:off x="549360" y="2033640"/>
            <a:ext cx="8029440" cy="142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5" name=""/>
          <p:cNvSpPr/>
          <p:nvPr/>
        </p:nvSpPr>
        <p:spPr>
          <a:xfrm>
            <a:off x="4871880" y="1467000"/>
            <a:ext cx="3706920" cy="566640"/>
          </a:xfrm>
          <a:prstGeom prst="rect">
            <a:avLst/>
          </a:prstGeom>
          <a:solidFill>
            <a:srgbClr val="336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mbined Bachelor and vocational qualification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2390760" y="2298600"/>
            <a:ext cx="2468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788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chatronics Engineer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6040" indent="-176040">
              <a:lnSpc>
                <a:spcPct val="100000"/>
              </a:lnSpc>
              <a:spcBef>
                <a:spcPts val="788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ustrial Mechanic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6040" indent="-176040">
              <a:lnSpc>
                <a:spcPct val="100000"/>
              </a:lnSpc>
              <a:spcBef>
                <a:spcPts val="788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ectronics Engineer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2394000" y="3657600"/>
            <a:ext cx="2465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5000"/>
              </a:lnSpc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ustrial Management Assistant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8" name="TextBox 17"/>
          <p:cNvSpPr/>
          <p:nvPr/>
        </p:nvSpPr>
        <p:spPr>
          <a:xfrm>
            <a:off x="2390760" y="4707000"/>
            <a:ext cx="2468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25000"/>
              </a:lnSpc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lified IT Speciali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Systems Integration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9" name=""/>
          <p:cNvSpPr/>
          <p:nvPr/>
        </p:nvSpPr>
        <p:spPr>
          <a:xfrm>
            <a:off x="2317680" y="1467000"/>
            <a:ext cx="2556000" cy="566640"/>
          </a:xfrm>
          <a:prstGeom prst="rect">
            <a:avLst/>
          </a:prstGeom>
          <a:solidFill>
            <a:srgbClr val="336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ditional vocational training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80" name=""/>
          <p:cNvSpPr/>
          <p:nvPr/>
        </p:nvSpPr>
        <p:spPr>
          <a:xfrm>
            <a:off x="554040" y="5716440"/>
            <a:ext cx="8024760" cy="7797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educate young people in 35 professions and 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  <a:p>
            <a:pPr algn="ct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te the development of new professions. </a:t>
            </a: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81" name=""/>
          <p:cNvSpPr/>
          <p:nvPr/>
        </p:nvSpPr>
        <p:spPr>
          <a:xfrm>
            <a:off x="2322360" y="1467000"/>
            <a:ext cx="2551320" cy="414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82" name=""/>
          <p:cNvSpPr/>
          <p:nvPr/>
        </p:nvSpPr>
        <p:spPr>
          <a:xfrm>
            <a:off x="4873680" y="1467000"/>
            <a:ext cx="3705120" cy="414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1467000"/>
            <a:ext cx="0" cy="566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715A-CE66-4BB3-B446-5C77D4C7F8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1728720"/>
            <a:ext cx="8618400" cy="466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2200320"/>
            <a:ext cx="4437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9 young European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from Belgium, Spain, France, the Netherlands, Greece, Portugal, Austria, Czech Republic, Slovakia, Ireland, Poland, United Kingdom, Estonia and Lithuania </a:t>
            </a:r>
            <a:endParaRPr b="0" lang="en-US" sz="17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ining i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.5 year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chatronics engine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ctronics engineer for operating systems technology</a:t>
            </a:r>
            <a:endParaRPr b="0" lang="en-US" sz="17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t vocational school in German</a:t>
            </a:r>
            <a:endParaRPr b="0" lang="en-US" sz="17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actice phases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 training cent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 in the Berlin factories </a:t>
            </a:r>
            <a:endParaRPr b="0" lang="en-US" sz="1700" spc="-1" strike="noStrike">
              <a:solidFill>
                <a:srgbClr val="000000"/>
              </a:solidFill>
              <a:latin typeface="Siemens Sans"/>
            </a:endParaRPr>
          </a:p>
          <a:p>
            <a:pPr marL="266760" indent="-266760" algn="just">
              <a:lnSpc>
                <a:spcPct val="100000"/>
              </a:lnSpc>
              <a:spcBef>
                <a:spcPts val="1375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mployment lat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ome country</a:t>
            </a:r>
            <a:endParaRPr b="0" lang="en-US" sz="17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6680" y="28368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project in Berlin: Europeans@Sieme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2563" t="0" r="13484" b="0"/>
          <a:stretch/>
        </p:blipFill>
        <p:spPr>
          <a:xfrm>
            <a:off x="384120" y="2052720"/>
            <a:ext cx="3940200" cy="4111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4120" y="1647720"/>
            <a:ext cx="8408880" cy="43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47720"/>
            <a:ext cx="8412120" cy="451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0319-B3B6-4F7B-90D1-1BFC319837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948360" y="1430280"/>
            <a:ext cx="1876680" cy="51148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1" name=""/>
          <p:cNvSpPr/>
          <p:nvPr/>
        </p:nvSpPr>
        <p:spPr>
          <a:xfrm>
            <a:off x="360360" y="3106800"/>
            <a:ext cx="6802560" cy="3459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2" name=""/>
          <p:cNvSpPr/>
          <p:nvPr/>
        </p:nvSpPr>
        <p:spPr>
          <a:xfrm>
            <a:off x="363600" y="4627440"/>
            <a:ext cx="6802200" cy="346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39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al training in Central and Eastern Europe: Good perspectives for company locations AND for young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9680" y="4978440"/>
            <a:ext cx="65386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September 2012, Siemens training center in Budapest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peration with the German-Hungarian Chamber of Commerce &amp; Industry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cational training in Budapest, vocational school in Gödöllö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welders a year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 languages and international experiences are included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2013, als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ustrial Mechan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chatroni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ers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5" name=""/>
          <p:cNvSpPr/>
          <p:nvPr/>
        </p:nvSpPr>
        <p:spPr>
          <a:xfrm>
            <a:off x="466560" y="3468600"/>
            <a:ext cx="6396120" cy="10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Academy in Timisoara founded in 2007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students a year 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year training as associated industrial engineer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ongs in the meantime to Continental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6" name=""/>
          <p:cNvSpPr/>
          <p:nvPr/>
        </p:nvSpPr>
        <p:spPr>
          <a:xfrm>
            <a:off x="363600" y="1425600"/>
            <a:ext cx="6802200" cy="3459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7" name=""/>
          <p:cNvSpPr/>
          <p:nvPr/>
        </p:nvSpPr>
        <p:spPr>
          <a:xfrm>
            <a:off x="412920" y="1776240"/>
            <a:ext cx="652428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professions since 1921, commercial professions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1953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0 apprentic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ectronics Engine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nformation Technology Technicians, Industrial Management Assistant, Mechatronics Engineer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raz, Linz, Innsbruck, Salzburg, Klagenfurt, Weiz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  <a:p>
            <a:pPr marL="174600" indent="-174600">
              <a:lnSpc>
                <a:spcPct val="100000"/>
              </a:lnSpc>
              <a:spcBef>
                <a:spcPts val="264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training for the hearing-impaired</a:t>
            </a:r>
            <a:endParaRPr b="0" lang="en-US" sz="1400" spc="-1" strike="noStrike">
              <a:solidFill>
                <a:srgbClr val="000000"/>
              </a:solidFill>
              <a:latin typeface="Siemens San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987"/>
          <a:stretch/>
        </p:blipFill>
        <p:spPr>
          <a:xfrm>
            <a:off x="6939000" y="1773360"/>
            <a:ext cx="1878120" cy="1338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948360" y="4973760"/>
            <a:ext cx="1876680" cy="1571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rcRect l="0" t="-6349" r="0" b="19408"/>
          <a:stretch/>
        </p:blipFill>
        <p:spPr>
          <a:xfrm>
            <a:off x="6948360" y="3348000"/>
            <a:ext cx="1876680" cy="1279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60360" y="1430280"/>
            <a:ext cx="8464680" cy="511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B100-53EE-460A-A8BC-0F33867202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8520" y="4505400"/>
            <a:ext cx="8180280" cy="17812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6327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e expect from training applic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8040" y="4611600"/>
            <a:ext cx="2411280" cy="1608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845320" y="4611600"/>
            <a:ext cx="2438280" cy="1608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198960" y="4611600"/>
            <a:ext cx="2471760" cy="1608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30280" y="1681200"/>
            <a:ext cx="721044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100000"/>
              </a:lnSpc>
              <a:spcBef>
                <a:spcPts val="10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od general educ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economics and law, politics and social affairs)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80880" indent="-380880">
              <a:lnSpc>
                <a:spcPct val="100000"/>
              </a:lnSpc>
              <a:spcBef>
                <a:spcPts val="10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od language skills in native language and English                        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verbal and written skills – Internationality of the working world, also for technical professions!)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80880" indent="-380880">
              <a:lnSpc>
                <a:spcPct val="100000"/>
              </a:lnSpc>
              <a:spcBef>
                <a:spcPts val="10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od skills in mathematics and physics 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especially for technical professions)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80880" indent="-380880">
              <a:lnSpc>
                <a:spcPct val="100000"/>
              </a:lnSpc>
              <a:spcBef>
                <a:spcPts val="10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C skil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MS Office applications and Internet)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marL="380880" indent="-380880">
              <a:lnSpc>
                <a:spcPct val="100000"/>
              </a:lnSpc>
              <a:buClr>
                <a:srgbClr val="9999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1484280"/>
            <a:ext cx="8183520" cy="480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64D2-31BF-4CB0-9E30-4A69917D67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0:01:45Z</dcterms:created>
  <dc:creator/>
  <dc:description/>
  <dc:language>en-US</dc:language>
  <cp:lastModifiedBy> </cp:lastModifiedBy>
  <cp:lastPrinted>2008-04-17T14:25:07Z</cp:lastPrinted>
  <dcterms:modified xsi:type="dcterms:W3CDTF">2012-11-19T16:16:12Z</dcterms:modified>
  <cp:revision>488</cp:revision>
  <dc:subject/>
  <dc:title>Corporate Design PowerPoint-Templates </dc:title>
</cp:coreProperties>
</file>